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57E8-059E-48BE-B9B2-F835EC73B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F603-5BA0-4FBA-9F98-24612DE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22CE-79A8-4FB7-A480-BD92279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1D5B-7810-4AD1-9B6F-18FEE3134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03C8-E213-495F-84E3-C785CFA2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2374-077E-4A25-8A11-7D54E0F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B751-9E2C-4F8C-AEF8-C3AE7B7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47AF-7749-41C0-837E-4756EC9C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9974-3716-4066-8FA5-5756BBCA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7C62-40B0-4A48-9C55-E098D6A9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9697-6ECE-4B18-9B8A-F5D4C376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6AA1-6B3B-4959-8731-6DC60AA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BB0-5C5D-4BB0-B5D4-BECF2A306C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B630-C466-40A3-90E4-9510F2F56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1082520"/>
            <a:ext cx="8686800" cy="547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0" y="1447920"/>
            <a:ext cx="1905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出力情報／指示伝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1800360"/>
            <a:ext cx="1905120" cy="23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447920"/>
            <a:ext cx="1797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入力／処理要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00360"/>
            <a:ext cx="1797120" cy="23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6360" y="1447920"/>
            <a:ext cx="38307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アクティビティ（意思決定処理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46360" y="1800360"/>
            <a:ext cx="3830760" cy="23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029200" y="4495680"/>
            <a:ext cx="3733200" cy="1142640"/>
            <a:chOff x="5029200" y="4495680"/>
            <a:chExt cx="3733200" cy="1142640"/>
          </a:xfrm>
        </p:grpSpPr>
        <p:sp>
          <p:nvSpPr>
            <p:cNvPr id="48" name=""/>
            <p:cNvSpPr/>
            <p:nvPr/>
          </p:nvSpPr>
          <p:spPr>
            <a:xfrm>
              <a:off x="5029200" y="4495680"/>
              <a:ext cx="3733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参照情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29200" y="4852800"/>
              <a:ext cx="3733200" cy="78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80880" y="4495680"/>
            <a:ext cx="3733200" cy="1142640"/>
            <a:chOff x="380880" y="4495680"/>
            <a:chExt cx="3733200" cy="1142640"/>
          </a:xfrm>
        </p:grpSpPr>
        <p:sp>
          <p:nvSpPr>
            <p:cNvPr id="51" name=""/>
            <p:cNvSpPr/>
            <p:nvPr/>
          </p:nvSpPr>
          <p:spPr>
            <a:xfrm>
              <a:off x="380880" y="4495680"/>
              <a:ext cx="3733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規程／標準／要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4852800"/>
              <a:ext cx="3733200" cy="78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22096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209680"/>
            <a:ext cx="380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24080" y="41148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41200" y="444600"/>
          <a:ext cx="8686800" cy="637920"/>
        </p:xfrm>
        <a:graphic>
          <a:graphicData uri="http://schemas.openxmlformats.org/drawingml/2006/table">
            <a:tbl>
              <a:tblPr/>
              <a:tblGrid>
                <a:gridCol w="2065320"/>
                <a:gridCol w="1515960"/>
                <a:gridCol w="2293920"/>
                <a:gridCol w="1022400"/>
                <a:gridCol w="851040"/>
                <a:gridCol w="938160"/>
              </a:tblGrid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個別業務処理定義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個別業務処理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80880" y="5867280"/>
            <a:ext cx="8382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8672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注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1:09:03Z</dcterms:modified>
  <cp:revision>1</cp:revision>
  <dc:subject/>
  <dc:title>スライド 1</dc:title>
</cp:coreProperties>
</file>